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907588"/>
  <p:notesSz cx="666432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8F2A37-0741-40E8-9313-4C4B7B1CF81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36560" y="275040"/>
            <a:ext cx="5587920" cy="301320"/>
          </a:xfrm>
          <a:prstGeom prst="rect">
            <a:avLst/>
          </a:prstGeom>
          <a:noFill/>
          <a:ln w="0">
            <a:noFill/>
          </a:ln>
        </p:spPr>
        <p:txBody>
          <a:bodyPr tIns="43920" bIns="43920" anchor="ctr">
            <a:noAutofit/>
          </a:bodyPr>
          <a:p>
            <a:pPr indent="0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42680" y="709200"/>
            <a:ext cx="5562360" cy="4206960"/>
          </a:xfrm>
          <a:prstGeom prst="rect">
            <a:avLst/>
          </a:prstGeom>
          <a:noFill/>
          <a:ln w="0">
            <a:noFill/>
          </a:ln>
        </p:spPr>
        <p:txBody>
          <a:bodyPr tIns="43920" bIns="439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42680" y="5316120"/>
            <a:ext cx="5562360" cy="4206960"/>
          </a:xfrm>
          <a:prstGeom prst="rect">
            <a:avLst/>
          </a:prstGeom>
          <a:noFill/>
          <a:ln w="0">
            <a:noFill/>
          </a:ln>
        </p:spPr>
        <p:txBody>
          <a:bodyPr tIns="43920" bIns="439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6FAC5D-2CF6-4AAF-AB6F-BEFB76707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36560" y="275040"/>
            <a:ext cx="5587920" cy="301320"/>
          </a:xfrm>
          <a:prstGeom prst="rect">
            <a:avLst/>
          </a:prstGeom>
          <a:noFill/>
          <a:ln w="0">
            <a:noFill/>
          </a:ln>
        </p:spPr>
        <p:txBody>
          <a:bodyPr tIns="43920" bIns="43920" anchor="ctr">
            <a:noAutofit/>
          </a:bodyPr>
          <a:p>
            <a:pPr indent="0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42680" y="709200"/>
            <a:ext cx="2714400" cy="4206960"/>
          </a:xfrm>
          <a:prstGeom prst="rect">
            <a:avLst/>
          </a:prstGeom>
          <a:noFill/>
          <a:ln w="0">
            <a:noFill/>
          </a:ln>
        </p:spPr>
        <p:txBody>
          <a:bodyPr tIns="43920" bIns="439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593160" y="709200"/>
            <a:ext cx="2714400" cy="4206960"/>
          </a:xfrm>
          <a:prstGeom prst="rect">
            <a:avLst/>
          </a:prstGeom>
          <a:noFill/>
          <a:ln w="0">
            <a:noFill/>
          </a:ln>
        </p:spPr>
        <p:txBody>
          <a:bodyPr tIns="43920" bIns="439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42680" y="5316120"/>
            <a:ext cx="2714400" cy="4206960"/>
          </a:xfrm>
          <a:prstGeom prst="rect">
            <a:avLst/>
          </a:prstGeom>
          <a:noFill/>
          <a:ln w="0">
            <a:noFill/>
          </a:ln>
        </p:spPr>
        <p:txBody>
          <a:bodyPr tIns="43920" bIns="439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3593160" y="5316120"/>
            <a:ext cx="2714400" cy="4206960"/>
          </a:xfrm>
          <a:prstGeom prst="rect">
            <a:avLst/>
          </a:prstGeom>
          <a:noFill/>
          <a:ln w="0">
            <a:noFill/>
          </a:ln>
        </p:spPr>
        <p:txBody>
          <a:bodyPr tIns="43920" bIns="439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C8C5A5-5FD0-445F-AB80-085B5B868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36560" y="275040"/>
            <a:ext cx="5587920" cy="301320"/>
          </a:xfrm>
          <a:prstGeom prst="rect">
            <a:avLst/>
          </a:prstGeom>
          <a:noFill/>
          <a:ln w="0">
            <a:noFill/>
          </a:ln>
        </p:spPr>
        <p:txBody>
          <a:bodyPr tIns="43920" bIns="43920" anchor="ctr">
            <a:noAutofit/>
          </a:bodyPr>
          <a:p>
            <a:pPr indent="0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42680" y="709200"/>
            <a:ext cx="1791000" cy="4206960"/>
          </a:xfrm>
          <a:prstGeom prst="rect">
            <a:avLst/>
          </a:prstGeom>
          <a:noFill/>
          <a:ln w="0">
            <a:noFill/>
          </a:ln>
        </p:spPr>
        <p:txBody>
          <a:bodyPr tIns="43920" bIns="439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623680" y="709200"/>
            <a:ext cx="1791000" cy="4206960"/>
          </a:xfrm>
          <a:prstGeom prst="rect">
            <a:avLst/>
          </a:prstGeom>
          <a:noFill/>
          <a:ln w="0">
            <a:noFill/>
          </a:ln>
        </p:spPr>
        <p:txBody>
          <a:bodyPr tIns="43920" bIns="439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04680" y="709200"/>
            <a:ext cx="1791000" cy="4206960"/>
          </a:xfrm>
          <a:prstGeom prst="rect">
            <a:avLst/>
          </a:prstGeom>
          <a:noFill/>
          <a:ln w="0">
            <a:noFill/>
          </a:ln>
        </p:spPr>
        <p:txBody>
          <a:bodyPr tIns="43920" bIns="439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42680" y="5316120"/>
            <a:ext cx="1791000" cy="4206960"/>
          </a:xfrm>
          <a:prstGeom prst="rect">
            <a:avLst/>
          </a:prstGeom>
          <a:noFill/>
          <a:ln w="0">
            <a:noFill/>
          </a:ln>
        </p:spPr>
        <p:txBody>
          <a:bodyPr tIns="43920" bIns="439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623680" y="5316120"/>
            <a:ext cx="1791000" cy="4206960"/>
          </a:xfrm>
          <a:prstGeom prst="rect">
            <a:avLst/>
          </a:prstGeom>
          <a:noFill/>
          <a:ln w="0">
            <a:noFill/>
          </a:ln>
        </p:spPr>
        <p:txBody>
          <a:bodyPr tIns="43920" bIns="439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4504680" y="5316120"/>
            <a:ext cx="1791000" cy="4206960"/>
          </a:xfrm>
          <a:prstGeom prst="rect">
            <a:avLst/>
          </a:prstGeom>
          <a:noFill/>
          <a:ln w="0">
            <a:noFill/>
          </a:ln>
        </p:spPr>
        <p:txBody>
          <a:bodyPr tIns="43920" bIns="439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92508D-6E6A-4B19-A70C-BBC5B7F0C0D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36560" y="275040"/>
            <a:ext cx="5587920" cy="301320"/>
          </a:xfrm>
          <a:prstGeom prst="rect">
            <a:avLst/>
          </a:prstGeom>
          <a:noFill/>
          <a:ln w="0">
            <a:noFill/>
          </a:ln>
        </p:spPr>
        <p:txBody>
          <a:bodyPr tIns="43920" bIns="43920" anchor="ctr">
            <a:noAutofit/>
          </a:bodyPr>
          <a:p>
            <a:pPr indent="0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42680" y="709200"/>
            <a:ext cx="5562360" cy="882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A186DC-FE4E-46B9-8C5B-0907A6C8F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36560" y="275040"/>
            <a:ext cx="5587920" cy="301320"/>
          </a:xfrm>
          <a:prstGeom prst="rect">
            <a:avLst/>
          </a:prstGeom>
          <a:noFill/>
          <a:ln w="0">
            <a:noFill/>
          </a:ln>
        </p:spPr>
        <p:txBody>
          <a:bodyPr tIns="43920" bIns="43920" anchor="ctr">
            <a:noAutofit/>
          </a:bodyPr>
          <a:p>
            <a:pPr indent="0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709200"/>
            <a:ext cx="5562360" cy="8820360"/>
          </a:xfrm>
          <a:prstGeom prst="rect">
            <a:avLst/>
          </a:prstGeom>
          <a:noFill/>
          <a:ln w="0">
            <a:noFill/>
          </a:ln>
        </p:spPr>
        <p:txBody>
          <a:bodyPr tIns="43920" bIns="439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23F1CE-B1A9-4C2C-8BCD-C1C47860A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36560" y="275040"/>
            <a:ext cx="5587920" cy="301320"/>
          </a:xfrm>
          <a:prstGeom prst="rect">
            <a:avLst/>
          </a:prstGeom>
          <a:noFill/>
          <a:ln w="0">
            <a:noFill/>
          </a:ln>
        </p:spPr>
        <p:txBody>
          <a:bodyPr tIns="43920" bIns="43920" anchor="ctr">
            <a:noAutofit/>
          </a:bodyPr>
          <a:p>
            <a:pPr indent="0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42680" y="709200"/>
            <a:ext cx="2714400" cy="8820360"/>
          </a:xfrm>
          <a:prstGeom prst="rect">
            <a:avLst/>
          </a:prstGeom>
          <a:noFill/>
          <a:ln w="0">
            <a:noFill/>
          </a:ln>
        </p:spPr>
        <p:txBody>
          <a:bodyPr tIns="43920" bIns="439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3593160" y="709200"/>
            <a:ext cx="2714400" cy="8820360"/>
          </a:xfrm>
          <a:prstGeom prst="rect">
            <a:avLst/>
          </a:prstGeom>
          <a:noFill/>
          <a:ln w="0">
            <a:noFill/>
          </a:ln>
        </p:spPr>
        <p:txBody>
          <a:bodyPr tIns="43920" bIns="439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A7F055-60B9-45AC-8007-695D705AC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36560" y="275040"/>
            <a:ext cx="5587920" cy="301320"/>
          </a:xfrm>
          <a:prstGeom prst="rect">
            <a:avLst/>
          </a:prstGeom>
          <a:noFill/>
          <a:ln w="0">
            <a:noFill/>
          </a:ln>
        </p:spPr>
        <p:txBody>
          <a:bodyPr tIns="43920" bIns="43920" anchor="ctr">
            <a:noAutofit/>
          </a:bodyPr>
          <a:p>
            <a:pPr indent="0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5145FA-DCCE-41EC-A213-30CC78270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36560" y="290520"/>
            <a:ext cx="5587920" cy="12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1C1283-E50E-4E15-93C9-B839F5149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36560" y="275040"/>
            <a:ext cx="5587920" cy="301320"/>
          </a:xfrm>
          <a:prstGeom prst="rect">
            <a:avLst/>
          </a:prstGeom>
          <a:noFill/>
          <a:ln w="0">
            <a:noFill/>
          </a:ln>
        </p:spPr>
        <p:txBody>
          <a:bodyPr tIns="43920" bIns="43920" anchor="ctr">
            <a:noAutofit/>
          </a:bodyPr>
          <a:p>
            <a:pPr indent="0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42680" y="709200"/>
            <a:ext cx="2714400" cy="4206960"/>
          </a:xfrm>
          <a:prstGeom prst="rect">
            <a:avLst/>
          </a:prstGeom>
          <a:noFill/>
          <a:ln w="0">
            <a:noFill/>
          </a:ln>
        </p:spPr>
        <p:txBody>
          <a:bodyPr tIns="43920" bIns="439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3593160" y="709200"/>
            <a:ext cx="2714400" cy="8820360"/>
          </a:xfrm>
          <a:prstGeom prst="rect">
            <a:avLst/>
          </a:prstGeom>
          <a:noFill/>
          <a:ln w="0">
            <a:noFill/>
          </a:ln>
        </p:spPr>
        <p:txBody>
          <a:bodyPr tIns="43920" bIns="439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42680" y="5316120"/>
            <a:ext cx="2714400" cy="4206960"/>
          </a:xfrm>
          <a:prstGeom prst="rect">
            <a:avLst/>
          </a:prstGeom>
          <a:noFill/>
          <a:ln w="0">
            <a:noFill/>
          </a:ln>
        </p:spPr>
        <p:txBody>
          <a:bodyPr tIns="43920" bIns="439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118515-139C-4FC9-B40B-A38DF1C64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36560" y="275040"/>
            <a:ext cx="5587920" cy="301320"/>
          </a:xfrm>
          <a:prstGeom prst="rect">
            <a:avLst/>
          </a:prstGeom>
          <a:noFill/>
          <a:ln w="0">
            <a:noFill/>
          </a:ln>
        </p:spPr>
        <p:txBody>
          <a:bodyPr tIns="43920" bIns="43920" anchor="ctr">
            <a:noAutofit/>
          </a:bodyPr>
          <a:p>
            <a:pPr indent="0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42680" y="709200"/>
            <a:ext cx="2714400" cy="8820360"/>
          </a:xfrm>
          <a:prstGeom prst="rect">
            <a:avLst/>
          </a:prstGeom>
          <a:noFill/>
          <a:ln w="0">
            <a:noFill/>
          </a:ln>
        </p:spPr>
        <p:txBody>
          <a:bodyPr tIns="43920" bIns="439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593160" y="709200"/>
            <a:ext cx="2714400" cy="4206960"/>
          </a:xfrm>
          <a:prstGeom prst="rect">
            <a:avLst/>
          </a:prstGeom>
          <a:noFill/>
          <a:ln w="0">
            <a:noFill/>
          </a:ln>
        </p:spPr>
        <p:txBody>
          <a:bodyPr tIns="43920" bIns="439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593160" y="5316120"/>
            <a:ext cx="2714400" cy="4206960"/>
          </a:xfrm>
          <a:prstGeom prst="rect">
            <a:avLst/>
          </a:prstGeom>
          <a:noFill/>
          <a:ln w="0">
            <a:noFill/>
          </a:ln>
        </p:spPr>
        <p:txBody>
          <a:bodyPr tIns="43920" bIns="439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F4A17D-E162-45D6-A5E3-65700928C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36560" y="275040"/>
            <a:ext cx="5587920" cy="301320"/>
          </a:xfrm>
          <a:prstGeom prst="rect">
            <a:avLst/>
          </a:prstGeom>
          <a:noFill/>
          <a:ln w="0">
            <a:noFill/>
          </a:ln>
        </p:spPr>
        <p:txBody>
          <a:bodyPr tIns="43920" bIns="43920" anchor="ctr">
            <a:noAutofit/>
          </a:bodyPr>
          <a:p>
            <a:pPr indent="0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42680" y="709200"/>
            <a:ext cx="2714400" cy="4206960"/>
          </a:xfrm>
          <a:prstGeom prst="rect">
            <a:avLst/>
          </a:prstGeom>
          <a:noFill/>
          <a:ln w="0">
            <a:noFill/>
          </a:ln>
        </p:spPr>
        <p:txBody>
          <a:bodyPr tIns="43920" bIns="439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593160" y="709200"/>
            <a:ext cx="2714400" cy="4206960"/>
          </a:xfrm>
          <a:prstGeom prst="rect">
            <a:avLst/>
          </a:prstGeom>
          <a:noFill/>
          <a:ln w="0">
            <a:noFill/>
          </a:ln>
        </p:spPr>
        <p:txBody>
          <a:bodyPr tIns="43920" bIns="439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42680" y="5316120"/>
            <a:ext cx="5562360" cy="4206960"/>
          </a:xfrm>
          <a:prstGeom prst="rect">
            <a:avLst/>
          </a:prstGeom>
          <a:noFill/>
          <a:ln w="0">
            <a:noFill/>
          </a:ln>
        </p:spPr>
        <p:txBody>
          <a:bodyPr tIns="43920" bIns="439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45C325-7C68-4434-B653-620CBD0F1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42680" y="709200"/>
            <a:ext cx="5562360" cy="8820360"/>
          </a:xfrm>
          <a:prstGeom prst="rect">
            <a:avLst/>
          </a:prstGeom>
          <a:noFill/>
          <a:ln w="0">
            <a:noFill/>
          </a:ln>
        </p:spPr>
        <p:txBody>
          <a:bodyPr tIns="43920" bIns="43920" anchor="t">
            <a:normAutofit/>
          </a:bodyPr>
          <a:p>
            <a:pPr indent="0">
              <a:spcBef>
                <a:spcPts val="249"/>
              </a:spcBef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447840" indent="7920">
              <a:spcBef>
                <a:spcPts val="249"/>
              </a:spcBef>
              <a:buClr>
                <a:srgbClr val="000000"/>
              </a:buClr>
              <a:buFont typeface="Verdana"/>
              <a:buChar char="–"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2" marL="895320" indent="19080">
              <a:spcBef>
                <a:spcPts val="249"/>
              </a:spcBef>
              <a:buClr>
                <a:srgbClr val="000000"/>
              </a:buClr>
              <a:buFont typeface="Verdana"/>
              <a:buChar char="•"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3" marL="1592280" indent="-227160">
              <a:spcBef>
                <a:spcPts val="249"/>
              </a:spcBef>
              <a:buClr>
                <a:srgbClr val="000000"/>
              </a:buClr>
              <a:buFont typeface="Verdana"/>
              <a:buChar char="–"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4" marL="2048040" indent="-227160">
              <a:spcBef>
                <a:spcPts val="249"/>
              </a:spcBef>
              <a:buClr>
                <a:srgbClr val="000000"/>
              </a:buClr>
              <a:buFont typeface="Verdana"/>
              <a:buChar char="»"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5" marL="2048040" indent="-227160">
              <a:spcBef>
                <a:spcPts val="249"/>
              </a:spcBef>
              <a:buClr>
                <a:srgbClr val="000000"/>
              </a:buClr>
              <a:buFont typeface="Verdana"/>
              <a:buChar char="»"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6" marL="2048040" indent="-227160">
              <a:spcBef>
                <a:spcPts val="249"/>
              </a:spcBef>
              <a:buClr>
                <a:srgbClr val="000000"/>
              </a:buClr>
              <a:buFont typeface="Verdana"/>
              <a:buChar char="»"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0" y="9700920"/>
            <a:ext cx="1581120" cy="204840"/>
          </a:xfrm>
          <a:prstGeom prst="rect">
            <a:avLst/>
          </a:prstGeom>
          <a:noFill/>
          <a:ln w="0">
            <a:noFill/>
          </a:ln>
        </p:spPr>
        <p:txBody>
          <a:bodyPr tIns="43920" bIns="4392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8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5428800" y="9672120"/>
            <a:ext cx="1428840" cy="233640"/>
          </a:xfrm>
          <a:prstGeom prst="rect">
            <a:avLst/>
          </a:prstGeom>
          <a:noFill/>
          <a:ln w="0">
            <a:noFill/>
          </a:ln>
        </p:spPr>
        <p:txBody>
          <a:bodyPr tIns="43920" bIns="4392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8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Page </a:t>
            </a:r>
            <a:fld id="{7CBB779D-C537-4AD5-BB4D-50C4E9141C20}" type="slidenum">
              <a:rPr b="0" lang="en-US" sz="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736560" y="290520"/>
            <a:ext cx="5587920" cy="270000"/>
          </a:xfrm>
          <a:prstGeom prst="rect">
            <a:avLst/>
          </a:prstGeom>
          <a:noFill/>
          <a:ln w="0">
            <a:noFill/>
          </a:ln>
        </p:spPr>
        <p:txBody>
          <a:bodyPr tIns="43920" bIns="43920" anchor="ctr">
            <a:noAutofit/>
          </a:bodyPr>
          <a:p>
            <a:pPr indent="0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"/>
          <p:cNvSpPr/>
          <p:nvPr/>
        </p:nvSpPr>
        <p:spPr>
          <a:xfrm>
            <a:off x="0" y="9691560"/>
            <a:ext cx="314964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Verdana"/>
              </a:rPr>
              <a:t>© BEYOND BUSINESS - CVO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9691560"/>
            <a:ext cx="685800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Verdana"/>
              </a:rPr>
              <a:t>www.BEYONDBUSINESS.info / www.CVOP.n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232240" y="9691560"/>
            <a:ext cx="162576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Page </a:t>
            </a:r>
            <a:fld id="{664B416F-557B-42EA-914D-DBB7D48D1C72}" type="slidenum">
              <a:rPr b="0" lang="en-US" sz="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36560" y="290520"/>
            <a:ext cx="5587920" cy="270000"/>
          </a:xfrm>
          <a:prstGeom prst="rect">
            <a:avLst/>
          </a:prstGeom>
          <a:noFill/>
          <a:ln w="0">
            <a:noFill/>
          </a:ln>
        </p:spPr>
        <p:txBody>
          <a:bodyPr tIns="43920" bIns="43920" anchor="ctr">
            <a:noAutofit/>
          </a:bodyPr>
          <a:p>
            <a:pPr indent="0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nl-NL" sz="1400" spc="-1" strike="noStrike">
                <a:solidFill>
                  <a:srgbClr val="000000"/>
                </a:solidFill>
                <a:latin typeface="Verdana"/>
              </a:rPr>
              <a:t>Mini-BCscan” zelfreflecti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42680" y="709200"/>
            <a:ext cx="5562360" cy="8820360"/>
          </a:xfrm>
          <a:prstGeom prst="rect">
            <a:avLst/>
          </a:prstGeom>
          <a:noFill/>
          <a:ln w="0">
            <a:noFill/>
          </a:ln>
        </p:spPr>
        <p:txBody>
          <a:bodyPr tIns="43920" bIns="43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Verdana"/>
              </a:rPr>
              <a:t>In deze zelfreflectie-scan word je gevraagd </a:t>
            </a:r>
            <a:r>
              <a:rPr b="1" lang="nl-NL" sz="1200" spc="-1" strike="noStrike">
                <a:solidFill>
                  <a:srgbClr val="000000"/>
                </a:solidFill>
                <a:latin typeface="Verdana"/>
              </a:rPr>
              <a:t>wat je voorkeurstijl is om met problemen om te gaan. </a:t>
            </a:r>
            <a:r>
              <a:rPr b="0" lang="nl-NL" sz="1200" spc="-1" strike="noStrike">
                <a:solidFill>
                  <a:srgbClr val="000000"/>
                </a:solidFill>
                <a:latin typeface="Verdana"/>
              </a:rPr>
              <a:t>Hieronder staan acht manieren om met problemen om te gaan. Gebruik de volgende schaal om aan te geven hoe vaak je die toepast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Verdana"/>
              </a:rPr>
              <a:t>1  Zelde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Verdana"/>
              </a:rPr>
              <a:t>2  Som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Verdana"/>
              </a:rPr>
              <a:t>3  Regelmati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Verdana"/>
              </a:rPr>
              <a:t>4  Heel vaak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Verdana"/>
              </a:rPr>
              <a:t>5  Bijna altij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Verdana"/>
              </a:rPr>
              <a:t>Ik luister goed naar anderen en heb begrip voor veel verschillende standpunten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Verdana"/>
              </a:rPr>
              <a:t>Ik zet duidelijke (werk)regels, richtlijnen en doelstellingen neer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75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75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Verdana"/>
              </a:rPr>
              <a:t>Ik gebruik bekende methoden om informatie en feiten te analyseren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99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Verdana"/>
              </a:rPr>
              <a:t>Ik zie nieuwe trends, kansen en mogelijkheden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Verdana"/>
              </a:rPr>
              <a:t>Ik onderhandel met en beïnvloed belangrijke mensen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Verdana"/>
              </a:rPr>
              <a:t>Ik bedenk oplossingen voor praktische problemen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75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75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Verdana"/>
              </a:rPr>
              <a:t>Ik toon een grote mate van tolerantie om goed samen te kunnen werken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51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Verdana"/>
              </a:rPr>
              <a:t>Ik kan mij goed richten en focussen op wat ik aan het doen ben en ik ben niet af te brengen van mijn doel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469800" y="3378240"/>
            <a:ext cx="274680" cy="426960"/>
            <a:chOff x="469800" y="3378240"/>
            <a:chExt cx="274680" cy="426960"/>
          </a:xfrm>
        </p:grpSpPr>
        <p:sp>
          <p:nvSpPr>
            <p:cNvPr id="46" name=""/>
            <p:cNvSpPr/>
            <p:nvPr/>
          </p:nvSpPr>
          <p:spPr>
            <a:xfrm>
              <a:off x="469800" y="3378240"/>
              <a:ext cx="27468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7200" rIns="972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69800" y="3805200"/>
              <a:ext cx="27468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7200" rIns="972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" name=""/>
          <p:cNvGrpSpPr/>
          <p:nvPr/>
        </p:nvGrpSpPr>
        <p:grpSpPr>
          <a:xfrm>
            <a:off x="469800" y="5549760"/>
            <a:ext cx="274680" cy="426960"/>
            <a:chOff x="469800" y="5549760"/>
            <a:chExt cx="274680" cy="426960"/>
          </a:xfrm>
        </p:grpSpPr>
        <p:sp>
          <p:nvSpPr>
            <p:cNvPr id="49" name=""/>
            <p:cNvSpPr/>
            <p:nvPr/>
          </p:nvSpPr>
          <p:spPr>
            <a:xfrm>
              <a:off x="469800" y="5549760"/>
              <a:ext cx="27468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7200" rIns="972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69800" y="5976720"/>
              <a:ext cx="27468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7200" rIns="972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469800" y="6647040"/>
            <a:ext cx="274680" cy="426960"/>
            <a:chOff x="469800" y="6647040"/>
            <a:chExt cx="274680" cy="426960"/>
          </a:xfrm>
        </p:grpSpPr>
        <p:sp>
          <p:nvSpPr>
            <p:cNvPr id="52" name=""/>
            <p:cNvSpPr/>
            <p:nvPr/>
          </p:nvSpPr>
          <p:spPr>
            <a:xfrm>
              <a:off x="469800" y="6647040"/>
              <a:ext cx="27468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7200" rIns="972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69800" y="7074000"/>
              <a:ext cx="27468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7200" rIns="972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" name=""/>
          <p:cNvSpPr/>
          <p:nvPr/>
        </p:nvSpPr>
        <p:spPr>
          <a:xfrm>
            <a:off x="0" y="3191040"/>
            <a:ext cx="52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3333cc"/>
                </a:solidFill>
                <a:latin typeface="Verdana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3660840"/>
            <a:ext cx="42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3333cc"/>
                </a:solidFill>
                <a:latin typeface="Verdana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4694400"/>
            <a:ext cx="52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3333cc"/>
                </a:solidFill>
                <a:latin typeface="Verdana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4282920"/>
            <a:ext cx="52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3333cc"/>
                </a:solidFill>
                <a:latin typeface="Verdana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5373720"/>
            <a:ext cx="52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3333cc"/>
                </a:solidFill>
                <a:latin typeface="Verdana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0" y="6450120"/>
            <a:ext cx="52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3333cc"/>
                </a:solidFill>
                <a:latin typeface="Verdana"/>
              </a:rPr>
              <a:t>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5778360"/>
            <a:ext cx="52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3333cc"/>
                </a:solidFill>
                <a:latin typeface="Verdana"/>
              </a:rPr>
              <a:t>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6862680"/>
            <a:ext cx="52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3333cc"/>
                </a:solidFill>
                <a:latin typeface="Verdana"/>
              </a:rPr>
              <a:t>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492120" y="4468680"/>
            <a:ext cx="274680" cy="426960"/>
            <a:chOff x="492120" y="4468680"/>
            <a:chExt cx="274680" cy="426960"/>
          </a:xfrm>
        </p:grpSpPr>
        <p:sp>
          <p:nvSpPr>
            <p:cNvPr id="63" name=""/>
            <p:cNvSpPr/>
            <p:nvPr/>
          </p:nvSpPr>
          <p:spPr>
            <a:xfrm>
              <a:off x="492120" y="4468680"/>
              <a:ext cx="27468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7200" rIns="972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92120" y="4895640"/>
              <a:ext cx="27468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7200" rIns="972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36560" y="290520"/>
            <a:ext cx="5587920" cy="270000"/>
          </a:xfrm>
          <a:prstGeom prst="rect">
            <a:avLst/>
          </a:prstGeom>
          <a:noFill/>
          <a:ln w="0">
            <a:noFill/>
          </a:ln>
        </p:spPr>
        <p:txBody>
          <a:bodyPr tIns="43920" bIns="43920" anchor="ctr">
            <a:noAutofit/>
          </a:bodyPr>
          <a:p>
            <a:pPr indent="0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Verdana"/>
              </a:rPr>
              <a:t>Teken je eigen profi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42680" y="709200"/>
            <a:ext cx="5562360" cy="8820360"/>
          </a:xfrm>
          <a:prstGeom prst="rect">
            <a:avLst/>
          </a:prstGeom>
          <a:noFill/>
          <a:ln w="0">
            <a:noFill/>
          </a:ln>
        </p:spPr>
        <p:txBody>
          <a:bodyPr tIns="43920" bIns="43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nl-NL" sz="1200" spc="-1" strike="noStrike">
                <a:solidFill>
                  <a:srgbClr val="000000"/>
                </a:solidFill>
                <a:latin typeface="Verdana"/>
              </a:rPr>
              <a:t>Mini-BCscan” zelfreflectie-scan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Verdana"/>
              </a:rPr>
              <a:t>Je eigen profiel tekenen gaat als volgt: Neem je scores van de vragen over door op de kruising van de vraaglijnen (A, B, ..) en de ringen=scores (1,2, ..) een rondje te zetten. Verbind daarna in rechte lijnen de rondjes met elkaar zodat een webprofiel ontstaat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268360"/>
            <a:ext cx="6858000" cy="499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498680" y="4537080"/>
            <a:ext cx="391464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7200" rIns="972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56000" y="2579760"/>
            <a:ext cx="0" cy="391464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7200" rIns="972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658880" y="3762000"/>
            <a:ext cx="3594240" cy="1550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7200" rIns="972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2680920" y="2739960"/>
            <a:ext cx="1550160" cy="359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7200" rIns="972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727720" y="2720160"/>
            <a:ext cx="1456560" cy="3633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7200" rIns="972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1639080" y="3808800"/>
            <a:ext cx="3633840" cy="1456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7200" rIns="972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54240" y="4143240"/>
            <a:ext cx="793800" cy="787680"/>
          </a:xfrm>
          <a:prstGeom prst="ellipse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7200" rIns="972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660760" y="3749760"/>
            <a:ext cx="1581120" cy="1574640"/>
          </a:xfrm>
          <a:prstGeom prst="ellipse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7200" rIns="972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266920" y="3355920"/>
            <a:ext cx="2362320" cy="2355840"/>
          </a:xfrm>
          <a:prstGeom prst="ellipse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7200" rIns="972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86040" y="2975040"/>
            <a:ext cx="3136680" cy="3136680"/>
          </a:xfrm>
          <a:prstGeom prst="ellipse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7200" rIns="972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492200" y="2562120"/>
            <a:ext cx="3930840" cy="3936960"/>
          </a:xfrm>
          <a:prstGeom prst="ellipse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7200" rIns="972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3715920" y="4413240"/>
            <a:ext cx="1858320" cy="276480"/>
            <a:chOff x="3715920" y="4413240"/>
            <a:chExt cx="1858320" cy="276480"/>
          </a:xfrm>
        </p:grpSpPr>
        <p:sp>
          <p:nvSpPr>
            <p:cNvPr id="80" name=""/>
            <p:cNvSpPr/>
            <p:nvPr/>
          </p:nvSpPr>
          <p:spPr>
            <a:xfrm>
              <a:off x="3715920" y="4413240"/>
              <a:ext cx="28188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7200" rIns="972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100400" y="4413240"/>
              <a:ext cx="28188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7200" rIns="972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482720" y="4413240"/>
              <a:ext cx="28188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7200" rIns="972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000000"/>
                  </a:solidFill>
                  <a:latin typeface="Verdana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79800" y="4413240"/>
              <a:ext cx="28188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7200" rIns="972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292360" y="4413240"/>
              <a:ext cx="28188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7200" rIns="972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000000"/>
                  </a:solidFill>
                  <a:latin typeface="Verdana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" name=""/>
          <p:cNvSpPr/>
          <p:nvPr/>
        </p:nvSpPr>
        <p:spPr>
          <a:xfrm>
            <a:off x="5420880" y="5261040"/>
            <a:ext cx="1252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PRODUC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93360" y="6394320"/>
            <a:ext cx="1315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BESTUUR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088640" y="6388200"/>
            <a:ext cx="1533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COORDIN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4280" y="5191200"/>
            <a:ext cx="1787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CONTROLE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28520" y="3573360"/>
            <a:ext cx="1739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STIMUL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637280" y="2465280"/>
            <a:ext cx="881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MEN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439880" y="2508120"/>
            <a:ext cx="1254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INNOV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94440" y="3570120"/>
            <a:ext cx="2006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BEMIDDELA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920960" y="2266920"/>
            <a:ext cx="52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3333cc"/>
                </a:solidFill>
                <a:latin typeface="Verdana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605480" y="6200640"/>
            <a:ext cx="425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3333cc"/>
                </a:solidFill>
                <a:latin typeface="Verdana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4200" y="2313000"/>
            <a:ext cx="52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3333cc"/>
                </a:solidFill>
                <a:latin typeface="Verdana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562040" y="6186600"/>
            <a:ext cx="52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3333cc"/>
                </a:solidFill>
                <a:latin typeface="Verdana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61000" y="3381480"/>
            <a:ext cx="52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3333cc"/>
                </a:solidFill>
                <a:latin typeface="Verdana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22360" y="3346560"/>
            <a:ext cx="52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3333cc"/>
                </a:solidFill>
                <a:latin typeface="Verdana"/>
              </a:rPr>
              <a:t>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38360" y="4957920"/>
            <a:ext cx="52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3333cc"/>
                </a:solidFill>
                <a:latin typeface="Verdana"/>
              </a:rPr>
              <a:t>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805360" y="5059440"/>
            <a:ext cx="52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3333cc"/>
                </a:solidFill>
                <a:latin typeface="Verdana"/>
              </a:rPr>
              <a:t>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04T11:02:37Z</dcterms:created>
  <dc:creator>Frans de Vlieger</dc:creator>
  <dc:description/>
  <dc:language>en-US</dc:language>
  <cp:lastModifiedBy>AAk</cp:lastModifiedBy>
  <cp:lastPrinted>2007-03-25T19:59:23Z</cp:lastPrinted>
  <dcterms:modified xsi:type="dcterms:W3CDTF">2011-03-30T07:51:19Z</dcterms:modified>
  <cp:revision>546</cp:revision>
  <dc:subject>Centrum voor Onoplosbare Problemen</dc:subject>
  <dc:title>module</dc:title>
</cp:coreProperties>
</file>